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72B3-0631-45B7-B53D-A6E800D1E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0444-F0AD-4F19-A8A1-6FB7B288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4D39-E0C0-418A-AD8E-6840EBD6B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29E8-25A4-4EB1-88C7-34002829C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D0A5-AEA1-4D81-BFD9-C7D4344B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7798-E508-46B7-9A6A-C29DA619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12A9-0057-4E02-ACBA-17E3642F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AD74-15CC-4CF2-BD53-E7F0A60B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67AB-7AE2-41E8-B91A-3CBDB4ED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4AD1-A630-41B7-9FAB-F0BF05E6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9520-C59A-44F5-A6B7-D4CB33CA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B5CF-316B-4E76-B907-81DC9D0A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DBA2-DDF3-420F-81E4-329CD76A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87DA-FA1E-4B3C-BAFC-D26B7CA0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F095-A849-4356-8BB2-65316044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D65D-8BEA-4770-A7F0-EE06994B8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81C3-7918-4982-80FE-4375A8989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321F-EA62-4CD5-96DB-62FCD7BF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52A2-F68F-472E-B188-03CA66CA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9274-D079-4B8C-A642-8EC2796C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4B2F-B88A-418A-ABCA-3CD9AD20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1C6C-8DC4-4F70-9E24-07713CF4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B23B-6211-4A6F-82F1-F977E85F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4874-3682-4D88-86EB-986B1270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D8A2-FA6F-4187-9847-ADF17B5BC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A8C7-3739-4EF6-B516-CA9F11EFDF5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十一章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保险公司人力资源管理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保险公司人事考核的方法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物比较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因素分析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定量考核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综合考评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考试评议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3141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三节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保险公司人力资源培训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12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员工培训的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战略性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学以致用的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因人施教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内容结构合理化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员工教育培训的内容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基层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专业技术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基层管理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高级管理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员工培训的方法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务转换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研究讨论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在职培训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学校培训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4360" y="299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四节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员激励机制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激励是指挖掘人的潜力，充分调动人的积极性。在现代公司管理制度中，应该重视对职工的激励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公司的激励手段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种是物质激励，另一种是精神激励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力资源管理部门在采取激励措施时还必须注意以下几点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将物质激励和精神激励相结合，采用恰当的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组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在不同时期、不同环境条件下，对不同的员工要区别对待，灵活激励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措施要公正，要以客观事实为依据，恰如其分地进行激励，对公司的每一个员工都要一视同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4360" y="3357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五节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劳动工资管理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险公司的劳动管理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劳动分工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劳动协作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定额定编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4360" y="299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一节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力资源管理概述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工资福利管理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员工的劳动报酬分两部分，一部分是直接的金钱报酬，包括工资、奖金、津贴；另一部分是间接的报酬，也就是职工的福利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39280" y="404280"/>
            <a:ext cx="8209080" cy="568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复习思考题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人力资源管理的主要内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人力资源管理应遵循哪些原则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人事考核的主要内容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员工培训的基本原则是什么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员工培训的主要内容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有哪几种类型？保险公司在采取激励机制时应注意哪些问题？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劳动管理的主要内容是什么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险公司人力资源管理的概念与任务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力资源管理的基本任务是根据保险公司发展战略的要求，通过有计划地对人力资源进行合理配置，加强公司员工的教育培训和人力资源的开发，推动整个保险公司各项工作的开展，确保保险公司战略目标的实现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保险公司人力资源管理的内容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力资源规划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的招聘、选择和人事安排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结构的合理配置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的教育、培训和开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工作评价和考核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事业生涯开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工资福利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保险公司人力资源管理的原则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力资源管理时须遵循以下几个原则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协调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任人唯贤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能位相宜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群体合力和互补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动态适应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四、加强人力资源管理的意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提高保险公司的劳动效率和经济效益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促进保险公司职工的全面发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有利于建立现代保险公司制度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二节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事绩效考核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险公司人事绩效考核的功能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基础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导向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促进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监督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人事绩效考核的内容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事绩效考核的主要内容有：德、能、勤、绩四个方面，以绩为重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6:08:57Z</dcterms:modified>
  <cp:revision>55</cp:revision>
  <dc:subject/>
  <dc:title>没有幻灯片标题</dc:title>
</cp:coreProperties>
</file>